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FAFC6-72E3-4864-9896-CEE8B0E05A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10FBC-BECC-4546-B908-D72E08FA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BF35C-749A-4DCE-9E4E-506019FE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B3E8F-553C-4329-B47A-DB2E898E6A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ED314-530F-40FB-84B4-A62E102F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53F83-0788-4618-AADE-BD8E3C42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6C78-739F-4D69-BF83-0675D0C1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8BC26-794F-43C7-B5BD-7811983A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096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EB0F-8818-4C67-A84F-5543C993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420F2-3248-483D-B22B-B90C60E4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B8AF1-19B3-4F48-ACA1-39D6FBF4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89612-3F46-4549-88E5-43302992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124760" y="5595840"/>
            <a:ext cx="2151000" cy="152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394F4-B89C-4F36-9E7C-28754E081B34}" type="datetime">
              <a:rPr b="0" lang="en-GB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7D4FF-006D-4A22-8362-15423AF3276F}" type="slidenum">
              <a:rPr b="0" lang="en-GB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89000"/>
          </a:bodyPr>
          <a:p>
            <a:pPr marL="3052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1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2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3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4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5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6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14520" y="809640"/>
            <a:ext cx="80467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utura LT Book"/>
              </a:rPr>
              <a:t>What are Community Sha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Withdrawable share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raditional (but forgotten) form for building co-operative and community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809640"/>
            <a:ext cx="6400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utura LT Book"/>
              </a:rPr>
              <a:t>The Community Shares Re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he need (and a business pl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he ability – leg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he crowd (and a plan to hook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55560" y="809640"/>
            <a:ext cx="80265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Futura LT Book"/>
              </a:rPr>
              <a:t>Why they work for enterpris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Unregulated by F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Cheap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Investment puts power in hands of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Invest to create the world you want to liv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‘</a:t>
            </a: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otentially Repayable Philanthrop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ax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Get 5-10 times what donations brin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Some share issu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Sheffield TV – £160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 </a:t>
            </a: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Positive News – £263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Ethical Consumer – £200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FC United of Manchester - £2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Portsmouth FC - £2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Highwinds - £3.7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34680" y="809640"/>
            <a:ext cx="79945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Why they might work for 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Very strong global 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eople cherish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Very large global supporter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Non-consumption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How much could you ra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ositive News: 1525 investors from 33 countries, around 20% of subscriber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Average £172 (though 20% were offline, and offline average was £4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If NI had similar strike rate and average, sum of around £1 at lower end, £4M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utura LT Book"/>
              </a:rPr>
              <a:t>Posi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b8b8b"/>
                </a:solidFill>
                <a:latin typeface="Futura LT Book"/>
              </a:rPr>
              <a:t>Selling ownership really has a value, especially to people who cheris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b8b8b"/>
                </a:solidFill>
                <a:latin typeface="Futura LT Book"/>
              </a:rPr>
              <a:t>The values behind a Community Share issue are the same values you have always been anim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utura LT Book"/>
              </a:rPr>
              <a:t>Neg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3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b8b8b"/>
                </a:solidFill>
                <a:latin typeface="Futura LT Book"/>
              </a:rPr>
              <a:t>Current situation in which staff are in control woul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4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Could have Tageszeitung-style worker co-op jam in community-owned dough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4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Could have pure multi-stakeholder co-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4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ositive News Charter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4T20:33:39Z</dcterms:created>
  <dc:creator>Dave</dc:creator>
  <dc:description/>
  <dc:language>en-US</dc:language>
  <cp:lastModifiedBy>Dave</cp:lastModifiedBy>
  <dcterms:modified xsi:type="dcterms:W3CDTF">2015-07-16T06:48:1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On-screen Show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8</vt:r8>
  </property>
</Properties>
</file>